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D31-70B4-47CF-8AE3-DDE79BE5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8AD-F067-4DF8-9AD8-1FECEBC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077-BA3A-468E-AAC0-3FEFCDED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8F3-0151-4F34-9BC0-DD6D1AB7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89E-6B68-4371-989C-7FA220AC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D00-BA38-4BF4-8E23-92CAE73B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17A-E9C6-431F-B30D-46B71E3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B82-FB0F-4519-AE03-4A03C130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445-DCB2-44B2-B0D4-4154E644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A1C-85D1-4642-B039-AB8EAD8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6FD-844F-4F2C-B943-0960626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6E2-5267-48B8-912E-FA1CE0C0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F7CE-290A-4C62-9917-24197EE88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19:28Z</dcterms:created>
  <dc:creator>Grupo Editorial</dc:creator>
  <dc:description/>
  <dc:language>en-US</dc:language>
  <cp:lastModifiedBy>Grupo Editorial</cp:lastModifiedBy>
  <dcterms:modified xsi:type="dcterms:W3CDTF">2001-09-27T15:25:07Z</dcterms:modified>
  <cp:revision>1</cp:revision>
  <dc:subject/>
  <dc:title>Sin título de diapositiva</dc:title>
</cp:coreProperties>
</file>